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5B2-1F92-4CA8-AE0C-550C376C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B0C-69BD-421C-A1AC-C95024C0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49B-97FE-46A7-B323-91E47858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A19-9C21-47CE-ABF3-B2D4C33A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00C-2D60-4CC7-A1DC-F588A86F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FB9-886B-4B03-80EF-8406E2B4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5CB-4B51-45C2-8977-51FC575B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BBF-C319-4B5A-BD0D-F13A6EC4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618-AA65-4AA3-A6ED-CF374E76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F19-FF44-416E-96E4-34C4D0BD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065-26BD-459F-9B63-7CCFED75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780-DCE1-4AD1-BE32-F4C4E035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4E4A-B064-4121-97F2-1E385109C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hare4.esd105.wednet.edu/kteske/bales/images/baltped.jpg&amp;imgrefurl=http://share4.esd105.wednet.edu/kteske/bales/baldueteromycota.htm&amp;usg=__ox0xPB3FDYAEQQJfPnkoCi7sv58=&amp;h=365&amp;w=448&amp;sz=44&amp;hl=en&amp;start=3&amp;tbnid=EOhVQlWr287KzM:&amp;tbnh=103&amp;tbnw=127&amp;prev=/images%3Fq%3DDeuteromycota%26hl%3De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zoomdinosaurs.com/label/plants.s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iitakemushroomlog.com/shiitakelore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google.com/imgres?imgurl=http://botit.botany.wisc.edu/toms_fungi/images/calbsem.jpg&amp;imgrefurl=http://botit.botany.wisc.edu/toms_fungi/jan99.html&amp;usg=__ZukxlGq7WwK9wsGj74OjaT4X9uE=&amp;h=371&amp;w=400&amp;sz=19&amp;hl=en&amp;start=2&amp;tbnid=fbfI0uu5ZWM6vM:&amp;tbnh=115&amp;tbnw=124&amp;prev=/images%3Fq%3Dfungi%2Bbudding%26hl%3Den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google.com/imgres?imgurl=http://www.avidimages.com/preview/2006/09/17/pink_fungi_avidimages_1021_prev.jpg&amp;imgrefurl=http://www.avidimages.com/view.php%3Fid%3D1021&amp;usg=__cc58sfBzdud3GZbNAqffN-OsdfQ=&amp;h=500&amp;w=375&amp;sz=28&amp;hl=en&amp;start=12&amp;tbnid=Ez9SSqo5QVirFM:&amp;tbnh=130&amp;tbnw=98&amp;prev=/images%3Fq%3Dfungi%26hl%3Den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Extra Bold"/>
              </a:rPr>
              <a:t>Fung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animated mushroom clipart image"/>
          <p:cNvPicPr/>
          <p:nvPr/>
        </p:nvPicPr>
        <p:blipFill>
          <a:blip r:embed="rId1"/>
          <a:stretch/>
        </p:blipFill>
        <p:spPr>
          <a:xfrm>
            <a:off x="3733920" y="5638680"/>
            <a:ext cx="9982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comycota (Sac Fung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their spores in special pods or sac-like structures called asci, which may open at one end. This giv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comyco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ability to discharge spores forcefully by squeezing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c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palaeos.com/Fungi/Images/Ascomycota.jpg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diomycota (Club Fung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mushrooms in this phylum look like umbrellas growing from the ground or like shelves growing on wood.  Characterized by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at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ha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ol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http://www.nearctica.com/biomes/edf/mushroom/mush1.jpg"/>
          <p:cNvPicPr/>
          <p:nvPr/>
        </p:nvPicPr>
        <p:blipFill>
          <a:blip r:embed="rId1"/>
          <a:stretch/>
        </p:blipFill>
        <p:spPr>
          <a:xfrm>
            <a:off x="5029200" y="2362320"/>
            <a:ext cx="34639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uteromyc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ove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human skin diseases are thi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hlete’s F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http://tbn1.google.com/images?q=tbn:EOhVQlWr287KzM:http://share4.esd105.wednet.edu/kteske/bales/images/baltp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209680"/>
            <a:ext cx="3505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chens (Mycophycophyt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very structure is unique: a union of two organisms -- a fungus and algae -- so complete that they behave and look like an entirely new be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lgae provide nutrients while the fungus protects them from the elements. Lichens can literally eat stones, survive severe cold, and remain dormant for long periods without har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of boulders with crustose lich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fs.fed.us/wildflowers/interesting/lichens/images/lichens_on_boulders_lg.jpg"/>
          <p:cNvPicPr/>
          <p:nvPr/>
        </p:nvPicPr>
        <p:blipFill>
          <a:blip r:embed="rId3"/>
          <a:stretch/>
        </p:blipFill>
        <p:spPr>
          <a:xfrm>
            <a:off x="2057400" y="160020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ycorrhiza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i in this group have an intimate association between the branched, tubular filaments (hyphae) of a fungus and the roots of high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corrhizae Fungi Around a Plant R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YF2031 - Mycorrhizae Fungi Around a Plant Root"/>
          <p:cNvPicPr/>
          <p:nvPr/>
        </p:nvPicPr>
        <p:blipFill>
          <a:blip r:embed="rId1"/>
          <a:stretch/>
        </p:blipFill>
        <p:spPr>
          <a:xfrm>
            <a:off x="5486400" y="2590920"/>
            <a:ext cx="2571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to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drugs are created from fun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nicill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fir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biotic comes from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g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yclospor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 dru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suppress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mune reactions 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 transpla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ast is used for b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tbn1.google.com/images?q=tbn:UH51hjKGldeDqM:http://i.ivillage.com/stuffwelove/Oct2007/F/cupcake_stand4_325.jpg"/>
          <p:cNvPicPr/>
          <p:nvPr/>
        </p:nvPicPr>
        <p:blipFill>
          <a:blip r:embed="rId1"/>
          <a:stretch/>
        </p:blipFill>
        <p:spPr>
          <a:xfrm>
            <a:off x="5715000" y="2438280"/>
            <a:ext cx="19526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to the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055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gi are important in the world's ecosystem as decompos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ase carbon dioxide to the atmosphere and nitrogen and other compounds to the soil where they are available for other organis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tbn1.google.com/images?q=tbn:TySRyOfl6gHSGM:http://image03.webshots.com/3/8/95/51/24789551oDZGAeXBpF_fs.jpg"/>
          <p:cNvPicPr/>
          <p:nvPr/>
        </p:nvPicPr>
        <p:blipFill>
          <a:blip r:embed="rId1"/>
          <a:stretch/>
        </p:blipFill>
        <p:spPr>
          <a:xfrm>
            <a:off x="762120" y="1600200"/>
            <a:ext cx="3338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ypha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of the threadlike filaments forming the mycelium of a fung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ycelium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roup of fine branching tubes (hyphae) that forms the main growing structure of a fungus. Visible structures like mushrooms are reproductive structures produced by the myceliu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Mushroom diagram to lab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676520"/>
            <a:ext cx="4343400" cy="3367080"/>
          </a:xfrm>
          <a:prstGeom prst="rect">
            <a:avLst/>
          </a:prstGeom>
          <a:ln w="0">
            <a:noFill/>
          </a:ln>
        </p:spPr>
      </p:pic>
      <p:sp>
        <p:nvSpPr>
          <p:cNvPr id="48" name="5-Point Star 5"/>
          <p:cNvSpPr/>
          <p:nvPr/>
        </p:nvSpPr>
        <p:spPr>
          <a:xfrm>
            <a:off x="8458200" y="4648320"/>
            <a:ext cx="22860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006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iti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 tough, semitransparent substance that found in the cell walls of certain fungi.  Chemically, it is a nitrogenous polysaccharide (a carbohydrat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si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organism that grows, feeds, and is sheltered on or in a different organism while contributing nothing to the survival of its ho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prophyt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y organism that lives on dead organic ma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1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Mushroom Lo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828800"/>
            <a:ext cx="21337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72392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dding: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orm of asexual reproduction in living organisms in which new individuals form from outgrowths (buds) on the bodies of mature organisms. These buds grow by mito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ores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usually one-celled reproductive body that can grow into a new organism without uniting with another cell. Spores a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pl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agmentati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orm of asexual reproduction or cloning where an organism is split into fragm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www.bbc.co.uk/oxford/pictures/visions_science/pop_up_01.jpg"/>
          <p:cNvPicPr/>
          <p:nvPr/>
        </p:nvPicPr>
        <p:blipFill>
          <a:blip r:embed="rId1"/>
          <a:stretch/>
        </p:blipFill>
        <p:spPr>
          <a:xfrm>
            <a:off x="838080" y="2133720"/>
            <a:ext cx="3314880" cy="2241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tbn0.google.com/images?q=tbn:fbfI0uu5ZWM6vM:http://botit.botany.wisc.edu/toms_fungi/images/calbse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533520"/>
            <a:ext cx="1600200" cy="148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tbn2.google.com/images?q=tbn:Ez9SSqo5QVirFM:http://www.avidimages.com/preview/2006/09/17/pink_fungi_avidimages_1021_prev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4495680"/>
            <a:ext cx="1219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fungi reproduce sexually, the male and female cells fuse, to produce spores inside a "fruiting body" such as a mushroom. They are unlike the seeds found in seed-plants, because they do not contain an embryo, and because they do not have much of a food reserve. The spores are dispersed throughout the environment where they will settle and gro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img.sparknotes.com/figures/5/5b2570b38ff96026a03c4f4d6d510ed7/basidiorepro.gif"/>
          <p:cNvPicPr/>
          <p:nvPr/>
        </p:nvPicPr>
        <p:blipFill>
          <a:blip r:embed="rId1"/>
          <a:stretch/>
        </p:blipFill>
        <p:spPr>
          <a:xfrm>
            <a:off x="1981080" y="306360"/>
            <a:ext cx="563904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gi can also reproduce asexually (budding is an example).   Fragmentation is also a form of asexual reproduction.  Fungi reproduce asexually by simply making little copies of themsel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95320" y="1295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http://www.topnews.in/health/files/Bread-mold.jpg"/>
          <p:cNvPicPr/>
          <p:nvPr/>
        </p:nvPicPr>
        <p:blipFill>
          <a:blip r:embed="rId1"/>
          <a:stretch/>
        </p:blipFill>
        <p:spPr>
          <a:xfrm>
            <a:off x="4724280" y="1676520"/>
            <a:ext cx="3954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taining Nutri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gi feed by absorbing food through the hyphae.  They do this by the following method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ungus grow hyphae into a food sour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gestive juices ooze from the tips of the hypha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juices break down the fo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yphae then absorb the dissolved fo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fungi break down decaying organisms.  Others live as parasites on other living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us on a dead org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us on a living org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http://www.allstop.com/images/examples/athletes-foot.jpg"/>
          <p:cNvPicPr/>
          <p:nvPr/>
        </p:nvPicPr>
        <p:blipFill>
          <a:blip r:embed="rId1"/>
          <a:stretch/>
        </p:blipFill>
        <p:spPr>
          <a:xfrm>
            <a:off x="5334120" y="2743200"/>
            <a:ext cx="2666880" cy="30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www.hikingwithchuck.com/Downloads/FungusOnFallenLog20071104.JPG"/>
          <p:cNvPicPr/>
          <p:nvPr/>
        </p:nvPicPr>
        <p:blipFill>
          <a:blip r:embed="rId2"/>
          <a:stretch/>
        </p:blipFill>
        <p:spPr>
          <a:xfrm>
            <a:off x="762120" y="2819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ygomy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 on decaying plant and animal matter in the soil. Some are parasites of plants, insects and small soil 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bread m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8" descr="http://www.chevroncars.com/learn/img-old/9-5-0.gif"/>
          <p:cNvPicPr/>
          <p:nvPr/>
        </p:nvPicPr>
        <p:blipFill>
          <a:blip r:embed="rId1"/>
          <a:stretch/>
        </p:blipFill>
        <p:spPr>
          <a:xfrm>
            <a:off x="5486400" y="2743200"/>
            <a:ext cx="25239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52:22Z</dcterms:created>
  <dc:creator>Student</dc:creator>
  <dc:description/>
  <dc:language>en-US</dc:language>
  <cp:lastModifiedBy>Teacher</cp:lastModifiedBy>
  <dcterms:modified xsi:type="dcterms:W3CDTF">2009-03-20T14:33:48Z</dcterms:modified>
  <cp:revision>17</cp:revision>
  <dc:subject/>
  <dc:title>Fungi</dc:title>
</cp:coreProperties>
</file>